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7A4-9CD3-4D44-8CE3-8B6C0541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C78-6DD5-45A5-ACA4-4F3954DA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2B9-67A6-425C-95B8-1E3997EF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632-93E2-4597-AC72-65471C9C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AE7-C84E-41C3-82D5-B1779EF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E85-70A9-44DB-B632-17FF3743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C4B-A8FD-4C39-942B-746DF30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B84-E72D-44AB-B32B-39B5212D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2E7-01C0-46E8-B944-2680BF49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D95-BBEC-451D-BD9C-CDFF11A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89D-8AE8-4FE8-8D13-56E92FD7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AFD-CA99-4D60-A1B0-1EBC8D37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D30-7198-4D4B-B37B-C8371547C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rocks.gg.utk.edu/Ge101/images/Sandstone.jpg&amp;imgrefurl=http://rocks.gg.utk.edu/Ge101/lecture_10.html&amp;h=412&amp;w=446&amp;prev=/images%3Fq%3Dsandstone%2Bsedimentary%2Brock%26start%3D20%26svnum%3D10%26hl%3Den%26lr%3D%26ie%3DUTF-8%26oe%3DUTF-8%26sa%3D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uceth.ch/stromboli/glossary/icons/pumice2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digistar.mb.ca/minsci/terms/Scoria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texasbeyondhistory.net/kids/images/obsidian-sm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vc403.bne025u.server-web.com/timerock/library/minerals/images/rhyolit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eology.csupomona.edu/alert/igneous/diorite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nteractive2.usgs.gov/learningweb/images/topic_rocks_igneous.jpg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bertencyclopaedia.com/j/Granite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eology.neab.net/pictures/rock128s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-public.tu-bs.de:8080/~pbuch/4e/basalt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228600" y="609480"/>
            <a:ext cx="5791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oc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1433520"/>
            <a:ext cx="2743200" cy="252108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"/>
          <p:cNvPicPr/>
          <p:nvPr/>
        </p:nvPicPr>
        <p:blipFill>
          <a:blip r:embed="rId4"/>
          <a:stretch/>
        </p:blipFill>
        <p:spPr>
          <a:xfrm>
            <a:off x="4419720" y="42670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gneiss" descr=""/>
          <p:cNvPicPr/>
          <p:nvPr/>
        </p:nvPicPr>
        <p:blipFill>
          <a:blip r:embed="rId5"/>
          <a:stretch/>
        </p:blipFill>
        <p:spPr>
          <a:xfrm>
            <a:off x="1143000" y="3657600"/>
            <a:ext cx="2332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ed7d7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6094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OOLING IS INSTANTANEOUS A GLASSY TEXTURE MAY FORM    (EX. OBSIDI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5812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GAS BUBBLES ARE TRAPPED AS THE LAVA RAPIDLY COOLS A VESICULAR TEXTURE MAY OCCUR (PUMIC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umice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475160"/>
            <a:ext cx="3025800" cy="2224080"/>
          </a:xfrm>
          <a:prstGeom prst="rect">
            <a:avLst/>
          </a:prstGeom>
          <a:ln w="0">
            <a:noFill/>
          </a:ln>
        </p:spPr>
      </p:pic>
      <p:pic>
        <p:nvPicPr>
          <p:cNvPr id="83" name="Scoria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495680"/>
            <a:ext cx="3200400" cy="2210040"/>
          </a:xfrm>
          <a:prstGeom prst="rect">
            <a:avLst/>
          </a:prstGeom>
          <a:ln w="0">
            <a:noFill/>
          </a:ln>
        </p:spPr>
      </p:pic>
      <p:pic>
        <p:nvPicPr>
          <p:cNvPr id="84" name="obsidian-sm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676520"/>
            <a:ext cx="29718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osterBodoni It BT"/>
                <a:ea typeface="Times New Roman"/>
              </a:rPr>
              <a:t>PORPHYRITIC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0666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TAINS TWO STAGES OF COO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676520"/>
            <a:ext cx="7086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OLS FIRST AT GREAT DEPTH FORMING LARGE CRYSTALS STILL  SURROUNDED B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304812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T IS THEN RUSHED TO THE SURFACE AND THE REMAINING LIQUID AROUND IT COOLS QUICKLY FORMING FINE-GRAINED CRYSTAL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mages" descr=""/>
          <p:cNvPicPr/>
          <p:nvPr/>
        </p:nvPicPr>
        <p:blipFill>
          <a:blip r:embed="rId2"/>
          <a:stretch/>
        </p:blipFill>
        <p:spPr>
          <a:xfrm>
            <a:off x="5562720" y="4419720"/>
            <a:ext cx="23619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4479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QUARTZ, ORTHOCLASE FELDSPAR, AND AT LEAST ONE OTHER MINERAL; LIGHT-COLORED; COARSE-GRAINED; MAKES UP CONTINENTS; FEL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352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OL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INE-GRAINED GRANITE; FEL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038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I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OLCANIC GLASS; RAPID COOLING; PYROCLASTIC; FEL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1814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M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PONGE-LIKE BECAUSE OF ESCAPING AIR BUBBLES DURING COOLING; FEL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81080" y="380880"/>
            <a:ext cx="4600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mmon Igneous Rocks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1430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INE-GRAINED; DARK-COLORED; MAKES UP THE OCEAN FLOOR; M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B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ARSE-GRAINED BASALT; MA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124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RAIN SIZE INBETWEEN BASALT AND GABBRO; MA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267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LT G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FIC OBSI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1814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FIC 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4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GROUP OF MINERALS BOUND TOGETHER IN SOME WA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5146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CKS ARE DIVIDED INTO THREE GROUPS BASED ON HOW THE ROCK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05320" y="5943600"/>
            <a:ext cx="434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TAMORPHIC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4876920"/>
            <a:ext cx="45720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DIMENTARY ROCK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95680" y="3809880"/>
            <a:ext cx="3400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NEOUS ROCK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6002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EOUS ROCKS ARE FORMED BY THE COOLING AND HARDENING OF MOLTEN ROCK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3526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USIVE (PLUTONIC) - FORM BELOW THE EARTH’S SUR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7242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USIVE (VOLCANIC) – FORM ABOVE THE EARTH’S SUR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33720" y="304920"/>
            <a:ext cx="4267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neous rocks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cfe"/>
            </a:gs>
            <a:gs pos="50000">
              <a:srgbClr val="ccccff"/>
            </a:gs>
            <a:gs pos="100000">
              <a:srgbClr val="ec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2767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XTU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THE SIZE OF THE CRYSTALS IN AN IGNEOUS ROC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3880" y="22860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HYSICAL PROPERTIE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4479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TWO PHYSICAL PROPERTIES OF IGNEOUS ROCKS USED IN THE IDENTIFICATION OF THE ROCK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1814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THE LARGER THE CRYSTAL SIZE THE DEEPER WITHIN THE EARTH THE ROCK FORM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5238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L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FERS TO THE MINERAL COMPOSITION OF THE ROC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895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581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IDENTIFIED BY USING THE GENERAL SHADE OF THE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5335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990720"/>
            <a:ext cx="4572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RE ARE MORE LIGHT MINERALS THAN IT IS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IF THERE ARE MORE DARK MINERALS THAN IT IS D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IF THERE IS THE SAME AMOUNT OF DARK MINERALS AS LIGHT THAN IT IS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rhyolite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533520"/>
            <a:ext cx="127476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diorite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419720"/>
            <a:ext cx="1828800" cy="1434960"/>
          </a:xfrm>
          <a:prstGeom prst="rect">
            <a:avLst/>
          </a:prstGeom>
          <a:ln w="0">
            <a:noFill/>
          </a:ln>
        </p:spPr>
      </p:pic>
      <p:pic>
        <p:nvPicPr>
          <p:cNvPr id="65" name="topic_rocks_igneou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2666880"/>
            <a:ext cx="20574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685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usive (plutonic) Igneous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686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G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OLTEN ROCK UNDERNEATH THE EARTH’S SURFA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5268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USIVE IGNEOUS ROCKS COOL SLOWLY DEEP WITHIN THE EARTH AND PRODUCES LARGE CRYS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4724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db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858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USIVE IGNEOUS ROCKS WILL RESULT IN A VERY COARSE (PEGMATITE) OR COARSE  (PHANERITIC) TEXTURE (EX. GRAN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ranit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895480"/>
            <a:ext cx="4343400" cy="2549520"/>
          </a:xfrm>
          <a:prstGeom prst="rect">
            <a:avLst/>
          </a:prstGeom>
          <a:ln w="0">
            <a:noFill/>
          </a:ln>
        </p:spPr>
      </p:pic>
      <p:pic>
        <p:nvPicPr>
          <p:cNvPr id="72" name="rock128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89548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95280" y="3049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usive (volcanic) igneous rock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143000"/>
            <a:ext cx="81536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V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OLTEN ROCK THAT POURS OUT ONTO THE EARTH’S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USIVE ROCKS LACK DISTINCT MINERAL GRAINS DUE TO RAPID COOLING OF LAVA AT OR NEAR THE EARTH’S SURFA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49568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USIVE IGNEOUS ROCKS WILL RESULT IN FINE (APHANITIC) TEXTURE (EX. BASAL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asal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97360" y="3809880"/>
            <a:ext cx="25146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3:25:03Z</dcterms:created>
  <dc:creator>Joseph Felipe</dc:creator>
  <dc:description/>
  <dc:language>en-US</dc:language>
  <cp:lastModifiedBy>Lakeland School District</cp:lastModifiedBy>
  <dcterms:modified xsi:type="dcterms:W3CDTF">2003-12-02T19:02:23Z</dcterms:modified>
  <cp:revision>10</cp:revision>
  <dc:subject/>
  <dc:title>PowerPoint Presentation</dc:title>
</cp:coreProperties>
</file>